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E4E3-6735-4000-8879-835931D4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0F24-681C-4084-8AD6-A2E677E2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CF6-1EAA-4685-B93E-9D291D94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F88-35C0-4EFB-ABA5-62AF1BF8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3A31-223A-42C3-AF3F-3DDF5D58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D07B-A4CF-4386-A1FC-2CF79366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8BCF-DE0F-43A3-BDAD-18036ECE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7AE8-92A7-4FF5-8C61-39131041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F719-645C-4BCA-AD5D-058108A4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C498-EA3D-4AF8-A43B-ADCA1230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C4B9-9961-4C75-839C-18582318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E85-9BA7-4A11-84B1-F2AD32F8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432E-830D-4410-97D4-6F2F318B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6BAE-B31E-413E-81CA-C3F6D6A8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430F-993C-41B0-9C42-89101F66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1E71-C846-4687-85D7-0B6E4A5A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E7AE-2CE3-4675-9122-8685E240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48C5B-68EC-4951-8D8D-BD3DA4CB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8B899-9CA8-4C09-8ABB-92963C76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46A5B-A00F-4393-8259-C004B142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2ABA0-7D0D-4AD1-98C5-5B2496DB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59642-9C6B-460B-A478-28B191D9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0655-5015-4C45-94EC-08F35F42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0716F-0121-4EA3-B38A-BC016D14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1B8E0-E45A-415A-9984-91620CD6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CB523-27E5-49A4-9990-59BBAD64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E6ED6-73CC-4FE9-86F0-208026CE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163BC-8144-4E8D-894F-45C1FFD6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ABAB7-8EB6-4FD2-B964-690B1427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5E649-13F1-4B41-A285-A2ECDC4A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EA606-2C92-41DC-B229-41182158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B8182-137B-4C42-8CB7-849DFC57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9EF8C-2738-4F81-8252-AB272BD7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3526-72C3-47F2-A7B3-F1222E5F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FAAEC-7A2C-41D1-BF34-6B3CFFB3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34CFC-06AD-434E-A15F-6F848778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A8F9B-567C-4ED4-A9F6-8243D533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D575E-FAC1-410D-8835-82967073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6192A-FD22-4B76-95D1-1D689D75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DE943-CC18-4446-9CDE-F8AF3433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28CFE-E4E7-4867-A1CB-814D56BE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736CC-8781-4473-ADCB-50160505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4214E-8AFB-4E3B-B87A-DA8B9436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E49-15BF-406D-AE19-7CA55562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E784-E678-4F16-95B9-DAB37AC7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C19-0EB1-4156-8D71-2CAA8144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9E6-F361-442D-AB53-BB3BFE0F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27A-6064-4776-A478-EB0EDF67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D5948-EB0B-407D-8A84-99C6BE9A37F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E4446-3F67-421B-B89D-701678ED48F9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E9CC1-5260-47A0-9CF2-EEE33FBB2538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AFC54-5F29-4876-8C75-CC75618296ED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1760" y="800280"/>
            <a:ext cx="9156600" cy="499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шественник увидел трех рабочих, которые толкали тяжело нагруженные тачки, и спросил каждого, что он делае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Первый ответил: «Толкаю эту тяжелую тачку, будь она проклята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Второй сказал: «Зарабатываю на хлеб для своей семьи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А третий гордо произнес: «Я строю прекрасный храм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Трое рабочих делали одно и то же, но чувствовали себя по-разном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первого работа была каторгой, и он был очень несчастен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чувствовал себя опорой и кормильцем семьи. В его ответе – спокойное достоинство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ий был горд и счастлив, ведь он служил прекрасной це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54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6"/>
          <p:cNvSpPr/>
          <p:nvPr/>
        </p:nvSpPr>
        <p:spPr>
          <a:xfrm>
            <a:off x="573120" y="5153040"/>
            <a:ext cx="11045880" cy="70812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95280" y="982800"/>
            <a:ext cx="96012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братите внимание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37720" y="182520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ProximaNova"/>
              </a:rPr>
              <a:t>раскр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ить — раскр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ивать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бустр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ить </a:t>
            </a:r>
            <a:r>
              <a:rPr b="1" lang="ru-RU" sz="1800" spc="-1" strike="noStrike">
                <a:solidFill>
                  <a:srgbClr val="333333"/>
                </a:solidFill>
                <a:latin typeface="ProximaNova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бустр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ивать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вык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пать </a:t>
            </a:r>
            <a:r>
              <a:rPr b="1" lang="ru-RU" sz="1800" spc="-1" strike="noStrike">
                <a:solidFill>
                  <a:srgbClr val="333333"/>
                </a:solidFill>
                <a:latin typeface="ProximaNova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вык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пыват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т</a:t>
            </a:r>
            <a:r>
              <a:rPr b="0" lang="ru-RU" sz="1800" spc="-1" strike="noStrike">
                <a:solidFill>
                  <a:srgbClr val="6d2d9e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пление </a:t>
            </a:r>
            <a:r>
              <a:rPr b="0" lang="ru-RU" sz="1800" spc="-1" strike="noStrike">
                <a:solidFill>
                  <a:srgbClr val="ff7228"/>
                </a:solidFill>
                <a:latin typeface="ProximaNova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т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пливат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п</a:t>
            </a:r>
            <a:r>
              <a:rPr b="0" lang="ru-RU" sz="1800" spc="-1" strike="noStrike">
                <a:solidFill>
                  <a:srgbClr val="6d2d9e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здавший </a:t>
            </a:r>
            <a:r>
              <a:rPr b="0" lang="ru-RU" sz="1800" spc="-1" strike="noStrike">
                <a:solidFill>
                  <a:srgbClr val="ff7228"/>
                </a:solidFill>
                <a:latin typeface="ProximaNova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п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здывать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4836960" y="1825560"/>
            <a:ext cx="488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см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треть </a:t>
            </a:r>
            <a:r>
              <a:rPr b="1" lang="ru-RU" sz="1800" spc="-1" strike="noStrike">
                <a:solidFill>
                  <a:srgbClr val="333333"/>
                </a:solidFill>
                <a:latin typeface="ProximaNova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осм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тривать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прогл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тить </a:t>
            </a:r>
            <a:r>
              <a:rPr b="1" lang="ru-RU" sz="1800" spc="-1" strike="noStrike">
                <a:solidFill>
                  <a:srgbClr val="333333"/>
                </a:solidFill>
                <a:latin typeface="ProximaNova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прогл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тывать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разл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о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мить </a:t>
            </a:r>
            <a:r>
              <a:rPr b="1" lang="ru-RU" sz="1800" spc="-1" strike="noStrike">
                <a:solidFill>
                  <a:srgbClr val="333333"/>
                </a:solidFill>
                <a:latin typeface="ProximaNova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разл</a:t>
            </a:r>
            <a:r>
              <a:rPr b="0" lang="ru-RU" sz="1800" spc="-1" strike="noStrike">
                <a:solidFill>
                  <a:srgbClr val="006dbf"/>
                </a:solidFill>
                <a:latin typeface="ProximaNova"/>
              </a:rPr>
              <a:t>а</a:t>
            </a:r>
            <a:r>
              <a:rPr b="0" lang="ru-RU" sz="1800" spc="-1" strike="noStrike">
                <a:solidFill>
                  <a:srgbClr val="333333"/>
                </a:solidFill>
                <a:latin typeface="ProximaNova"/>
              </a:rPr>
              <a:t>мывать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573120" y="5153040"/>
            <a:ext cx="1104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entury Gothic"/>
                <a:ea typeface="Times New Roman"/>
              </a:rPr>
              <a:t>Нельзя проверять правописание безударных гласных О/А в глагольных корнях при помощи глаголов на </a:t>
            </a:r>
            <a:r>
              <a:rPr b="1" lang="ru-RU" sz="2000" spc="-1" strike="noStrike">
                <a:solidFill>
                  <a:srgbClr val="006dbf"/>
                </a:solidFill>
                <a:latin typeface="Century Gothic"/>
                <a:ea typeface="Times New Roman"/>
              </a:rPr>
              <a:t>-ивать, -ывать </a:t>
            </a:r>
            <a:r>
              <a:rPr b="1" lang="ru-RU" sz="2000" spc="-1" strike="noStrike">
                <a:solidFill>
                  <a:srgbClr val="333333"/>
                </a:solidFill>
                <a:latin typeface="Century Gothic"/>
                <a:ea typeface="Times New Roman"/>
              </a:rPr>
              <a:t>(глаголов несовершенного вида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95280" y="982440"/>
            <a:ext cx="96012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Рассмотрим примеры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238040" y="1561680"/>
            <a:ext cx="925164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 № 1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Укажите 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арианты ответов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в которых во всех словах одного ряда пропущена безударная 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редующаяся гласная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корня. Запишите номера ответо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расст..лать, уг..реть, бл..стат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ф..стиваль, зан..мать, угр..жат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просл..влять, р..стовщик, см..родин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) прик..сновение, изл..жение, подр..внят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) т..чилка, ф..рмацевт, выг..рет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9640" y="5287680"/>
            <a:ext cx="414000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твет: 3,4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282680" y="703080"/>
            <a:ext cx="9601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 № 2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кажите варианты ответов, в которых во всех словах одного ряда пропущена безударная чередующаяся гласная корня. Запишите номера ответо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ж..мать, отв..рить (овощи), прим..рение (сторон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..сички, оз..рение, г..реват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..раться, зар..сли, прик..снутьс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л..жить, несг..раемый, пон..ман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..рила, зам..реть, ст..листически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82320" y="5439960"/>
            <a:ext cx="18795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твет: 14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397160" y="969840"/>
            <a:ext cx="96012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кажите варианты ответов, в которых во всех словах одного ряда пропущена безударная непроверяемая гласная кор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..ндидат, к..лач, ст..ллаж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..ремония, подг..ревший, ог..рчаться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ч..нить, деф..цит, пол..жен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пп..рат, пр..зидент, пр..вет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..няние, од..ваться, ув..жение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стоятельная работа)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124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24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135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 23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 15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Карточка  1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ть слова, вставить пропущенные буквы, выделить корни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..нительный, з..ря , сл..гаемое, р..внина, согр..шить, оч..рование, к..нонада, заг..реть, ар..мат, заб..рать, к..сательная, опт..мист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Проверим себ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2160720"/>
            <a:ext cx="859644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ленительный, заря , слагаемое, равнина, согрешить, очарование, канонада, загореть, аромат, забирать, касательная, оптимист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Арка 3"/>
          <p:cNvSpPr/>
          <p:nvPr/>
        </p:nvSpPr>
        <p:spPr>
          <a:xfrm flipV="1" rot="10800000">
            <a:off x="1244160" y="2160720"/>
            <a:ext cx="800280" cy="226800"/>
          </a:xfrm>
          <a:custGeom>
            <a:avLst/>
            <a:gdLst/>
            <a:ahLst/>
            <a:rect l="l" t="t" r="r" b="b"/>
            <a:pathLst>
              <a:path w="800100" h="227012">
                <a:moveTo>
                  <a:pt x="0" y="113506"/>
                </a:moveTo>
                <a:cubicBezTo>
                  <a:pt x="0" y="50818"/>
                  <a:pt x="179108" y="0"/>
                  <a:pt x="400050" y="0"/>
                </a:cubicBezTo>
                <a:cubicBezTo>
                  <a:pt x="620992" y="0"/>
                  <a:pt x="800100" y="50818"/>
                  <a:pt x="800100" y="113506"/>
                </a:cubicBezTo>
                <a:lnTo>
                  <a:pt x="743347" y="113506"/>
                </a:lnTo>
                <a:cubicBezTo>
                  <a:pt x="743347" y="82162"/>
                  <a:pt x="589648" y="56753"/>
                  <a:pt x="400050" y="56753"/>
                </a:cubicBezTo>
                <a:cubicBezTo>
                  <a:pt x="210452" y="56753"/>
                  <a:pt x="56753" y="82162"/>
                  <a:pt x="56753" y="113506"/>
                </a:cubicBezTo>
                <a:lnTo>
                  <a:pt x="0" y="1135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Арка 4"/>
          <p:cNvSpPr/>
          <p:nvPr/>
        </p:nvSpPr>
        <p:spPr>
          <a:xfrm>
            <a:off x="3822840" y="2160720"/>
            <a:ext cx="635040" cy="226800"/>
          </a:xfrm>
          <a:custGeom>
            <a:avLst/>
            <a:gdLst/>
            <a:ahLst/>
            <a:rect l="l" t="t" r="r" b="b"/>
            <a:pathLst>
              <a:path w="635000" h="227012">
                <a:moveTo>
                  <a:pt x="0" y="113506"/>
                </a:moveTo>
                <a:cubicBezTo>
                  <a:pt x="0" y="50818"/>
                  <a:pt x="142150" y="0"/>
                  <a:pt x="317500" y="0"/>
                </a:cubicBezTo>
                <a:cubicBezTo>
                  <a:pt x="492850" y="0"/>
                  <a:pt x="635000" y="50818"/>
                  <a:pt x="635000" y="113506"/>
                </a:cubicBezTo>
                <a:lnTo>
                  <a:pt x="578247" y="113506"/>
                </a:lnTo>
                <a:cubicBezTo>
                  <a:pt x="578247" y="82162"/>
                  <a:pt x="461507" y="56753"/>
                  <a:pt x="317500" y="56753"/>
                </a:cubicBezTo>
                <a:cubicBezTo>
                  <a:pt x="173493" y="56753"/>
                  <a:pt x="56753" y="82162"/>
                  <a:pt x="56753" y="113506"/>
                </a:cubicBezTo>
                <a:lnTo>
                  <a:pt x="0" y="113506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Арка 5"/>
          <p:cNvSpPr/>
          <p:nvPr/>
        </p:nvSpPr>
        <p:spPr>
          <a:xfrm>
            <a:off x="5181480" y="2160720"/>
            <a:ext cx="482760" cy="272880"/>
          </a:xfrm>
          <a:custGeom>
            <a:avLst/>
            <a:gdLst/>
            <a:ahLst/>
            <a:rect l="l" t="t" r="r" b="b"/>
            <a:pathLst>
              <a:path w="482600" h="273050">
                <a:moveTo>
                  <a:pt x="0" y="136525"/>
                </a:moveTo>
                <a:cubicBezTo>
                  <a:pt x="0" y="61124"/>
                  <a:pt x="108034" y="0"/>
                  <a:pt x="241300" y="0"/>
                </a:cubicBezTo>
                <a:cubicBezTo>
                  <a:pt x="374566" y="0"/>
                  <a:pt x="482600" y="61124"/>
                  <a:pt x="482600" y="136525"/>
                </a:cubicBezTo>
                <a:lnTo>
                  <a:pt x="414338" y="136525"/>
                </a:lnTo>
                <a:cubicBezTo>
                  <a:pt x="414338" y="98824"/>
                  <a:pt x="336866" y="68262"/>
                  <a:pt x="241300" y="68262"/>
                </a:cubicBezTo>
                <a:cubicBezTo>
                  <a:pt x="145734" y="68262"/>
                  <a:pt x="68262" y="98824"/>
                  <a:pt x="68262" y="136525"/>
                </a:cubicBezTo>
                <a:lnTo>
                  <a:pt x="0" y="136525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Арка 6"/>
          <p:cNvSpPr/>
          <p:nvPr/>
        </p:nvSpPr>
        <p:spPr>
          <a:xfrm>
            <a:off x="6900840" y="2182680"/>
            <a:ext cx="693720" cy="204840"/>
          </a:xfrm>
          <a:custGeom>
            <a:avLst/>
            <a:gdLst/>
            <a:ahLst/>
            <a:rect l="l" t="t" r="r" b="b"/>
            <a:pathLst>
              <a:path w="693737" h="204787">
                <a:moveTo>
                  <a:pt x="0" y="102394"/>
                </a:moveTo>
                <a:cubicBezTo>
                  <a:pt x="0" y="45843"/>
                  <a:pt x="155299" y="0"/>
                  <a:pt x="346869" y="0"/>
                </a:cubicBezTo>
                <a:cubicBezTo>
                  <a:pt x="538439" y="0"/>
                  <a:pt x="693738" y="45843"/>
                  <a:pt x="693738" y="102394"/>
                </a:cubicBezTo>
                <a:lnTo>
                  <a:pt x="642540" y="102394"/>
                </a:lnTo>
                <a:cubicBezTo>
                  <a:pt x="642540" y="74119"/>
                  <a:pt x="510163" y="51197"/>
                  <a:pt x="346868" y="51197"/>
                </a:cubicBezTo>
                <a:cubicBezTo>
                  <a:pt x="183573" y="51197"/>
                  <a:pt x="51196" y="74119"/>
                  <a:pt x="51196" y="102394"/>
                </a:cubicBezTo>
                <a:lnTo>
                  <a:pt x="0" y="102394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Арка 7"/>
          <p:cNvSpPr/>
          <p:nvPr/>
        </p:nvSpPr>
        <p:spPr>
          <a:xfrm>
            <a:off x="1486080" y="2730600"/>
            <a:ext cx="749160" cy="122040"/>
          </a:xfrm>
          <a:custGeom>
            <a:avLst/>
            <a:gdLst/>
            <a:ahLst/>
            <a:rect l="l" t="t" r="r" b="b"/>
            <a:pathLst>
              <a:path w="749300" h="122238">
                <a:moveTo>
                  <a:pt x="0" y="61119"/>
                </a:moveTo>
                <a:cubicBezTo>
                  <a:pt x="0" y="27364"/>
                  <a:pt x="167737" y="0"/>
                  <a:pt x="374650" y="0"/>
                </a:cubicBezTo>
                <a:cubicBezTo>
                  <a:pt x="581563" y="0"/>
                  <a:pt x="749300" y="27364"/>
                  <a:pt x="749300" y="61119"/>
                </a:cubicBezTo>
                <a:lnTo>
                  <a:pt x="718741" y="61119"/>
                </a:lnTo>
                <a:cubicBezTo>
                  <a:pt x="718741" y="44241"/>
                  <a:pt x="564686" y="30559"/>
                  <a:pt x="374650" y="30559"/>
                </a:cubicBezTo>
                <a:cubicBezTo>
                  <a:pt x="184614" y="30559"/>
                  <a:pt x="30559" y="44241"/>
                  <a:pt x="30559" y="61119"/>
                </a:cubicBezTo>
                <a:lnTo>
                  <a:pt x="0" y="61119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Арка 8"/>
          <p:cNvSpPr/>
          <p:nvPr/>
        </p:nvSpPr>
        <p:spPr>
          <a:xfrm>
            <a:off x="3403440" y="2730600"/>
            <a:ext cx="419400" cy="122040"/>
          </a:xfrm>
          <a:custGeom>
            <a:avLst/>
            <a:gdLst/>
            <a:ahLst/>
            <a:rect l="l" t="t" r="r" b="b"/>
            <a:pathLst>
              <a:path w="419100" h="122238">
                <a:moveTo>
                  <a:pt x="0" y="61119"/>
                </a:moveTo>
                <a:cubicBezTo>
                  <a:pt x="0" y="27364"/>
                  <a:pt x="93819" y="0"/>
                  <a:pt x="209550" y="0"/>
                </a:cubicBezTo>
                <a:cubicBezTo>
                  <a:pt x="325281" y="0"/>
                  <a:pt x="419100" y="27364"/>
                  <a:pt x="419100" y="61119"/>
                </a:cubicBezTo>
                <a:lnTo>
                  <a:pt x="388541" y="61119"/>
                </a:lnTo>
                <a:cubicBezTo>
                  <a:pt x="388541" y="44241"/>
                  <a:pt x="308404" y="30559"/>
                  <a:pt x="209550" y="30559"/>
                </a:cubicBezTo>
                <a:cubicBezTo>
                  <a:pt x="110696" y="30559"/>
                  <a:pt x="30559" y="44241"/>
                  <a:pt x="30559" y="61119"/>
                </a:cubicBezTo>
                <a:lnTo>
                  <a:pt x="0" y="61119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Арка 9"/>
          <p:cNvSpPr/>
          <p:nvPr/>
        </p:nvSpPr>
        <p:spPr>
          <a:xfrm>
            <a:off x="5346720" y="2664000"/>
            <a:ext cx="1384200" cy="234720"/>
          </a:xfrm>
          <a:custGeom>
            <a:avLst/>
            <a:gdLst/>
            <a:ahLst/>
            <a:rect l="l" t="t" r="r" b="b"/>
            <a:pathLst>
              <a:path w="1384300" h="234950">
                <a:moveTo>
                  <a:pt x="0" y="117475"/>
                </a:moveTo>
                <a:cubicBezTo>
                  <a:pt x="0" y="52595"/>
                  <a:pt x="309886" y="0"/>
                  <a:pt x="692150" y="0"/>
                </a:cubicBezTo>
                <a:cubicBezTo>
                  <a:pt x="1074414" y="0"/>
                  <a:pt x="1384300" y="52595"/>
                  <a:pt x="1384300" y="117475"/>
                </a:cubicBezTo>
                <a:lnTo>
                  <a:pt x="1325563" y="117475"/>
                </a:lnTo>
                <a:cubicBezTo>
                  <a:pt x="1325563" y="85035"/>
                  <a:pt x="1041974" y="58737"/>
                  <a:pt x="692150" y="58737"/>
                </a:cubicBezTo>
                <a:cubicBezTo>
                  <a:pt x="342326" y="58737"/>
                  <a:pt x="58737" y="85035"/>
                  <a:pt x="58737" y="117475"/>
                </a:cubicBezTo>
                <a:lnTo>
                  <a:pt x="0" y="117475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Арка 10"/>
          <p:cNvSpPr/>
          <p:nvPr/>
        </p:nvSpPr>
        <p:spPr>
          <a:xfrm>
            <a:off x="7442280" y="2730600"/>
            <a:ext cx="533160" cy="122040"/>
          </a:xfrm>
          <a:custGeom>
            <a:avLst/>
            <a:gdLst/>
            <a:ahLst/>
            <a:rect l="l" t="t" r="r" b="b"/>
            <a:pathLst>
              <a:path w="533400" h="122238">
                <a:moveTo>
                  <a:pt x="0" y="61119"/>
                </a:moveTo>
                <a:cubicBezTo>
                  <a:pt x="0" y="27364"/>
                  <a:pt x="119406" y="0"/>
                  <a:pt x="266700" y="0"/>
                </a:cubicBezTo>
                <a:cubicBezTo>
                  <a:pt x="413994" y="0"/>
                  <a:pt x="533400" y="27364"/>
                  <a:pt x="533400" y="61119"/>
                </a:cubicBezTo>
                <a:lnTo>
                  <a:pt x="502841" y="61119"/>
                </a:lnTo>
                <a:cubicBezTo>
                  <a:pt x="502841" y="44241"/>
                  <a:pt x="397117" y="30559"/>
                  <a:pt x="266700" y="30559"/>
                </a:cubicBezTo>
                <a:cubicBezTo>
                  <a:pt x="136283" y="30559"/>
                  <a:pt x="30559" y="44241"/>
                  <a:pt x="30559" y="61119"/>
                </a:cubicBezTo>
                <a:lnTo>
                  <a:pt x="0" y="61119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Арка 11"/>
          <p:cNvSpPr/>
          <p:nvPr/>
        </p:nvSpPr>
        <p:spPr>
          <a:xfrm>
            <a:off x="1092240" y="3263760"/>
            <a:ext cx="1143000" cy="88920"/>
          </a:xfrm>
          <a:custGeom>
            <a:avLst/>
            <a:gdLst/>
            <a:ahLst/>
            <a:rect l="l" t="t" r="r" b="b"/>
            <a:pathLst>
              <a:path w="1143000" h="88900">
                <a:moveTo>
                  <a:pt x="0" y="44450"/>
                </a:moveTo>
                <a:cubicBezTo>
                  <a:pt x="0" y="19901"/>
                  <a:pt x="255869" y="0"/>
                  <a:pt x="571500" y="0"/>
                </a:cubicBezTo>
                <a:cubicBezTo>
                  <a:pt x="887131" y="0"/>
                  <a:pt x="1143000" y="19901"/>
                  <a:pt x="1143000" y="44450"/>
                </a:cubicBezTo>
                <a:lnTo>
                  <a:pt x="1120775" y="44450"/>
                </a:lnTo>
                <a:cubicBezTo>
                  <a:pt x="1120775" y="32175"/>
                  <a:pt x="874856" y="22225"/>
                  <a:pt x="571500" y="22225"/>
                </a:cubicBezTo>
                <a:cubicBezTo>
                  <a:pt x="268144" y="22225"/>
                  <a:pt x="22225" y="32175"/>
                  <a:pt x="22225" y="44450"/>
                </a:cubicBezTo>
                <a:lnTo>
                  <a:pt x="0" y="44450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Арка 12"/>
          <p:cNvSpPr/>
          <p:nvPr/>
        </p:nvSpPr>
        <p:spPr>
          <a:xfrm>
            <a:off x="2819520" y="3195720"/>
            <a:ext cx="583920" cy="156960"/>
          </a:xfrm>
          <a:custGeom>
            <a:avLst/>
            <a:gdLst/>
            <a:ahLst/>
            <a:rect l="l" t="t" r="r" b="b"/>
            <a:pathLst>
              <a:path w="584200" h="157162">
                <a:moveTo>
                  <a:pt x="0" y="78581"/>
                </a:moveTo>
                <a:cubicBezTo>
                  <a:pt x="0" y="35182"/>
                  <a:pt x="130778" y="0"/>
                  <a:pt x="292100" y="0"/>
                </a:cubicBezTo>
                <a:cubicBezTo>
                  <a:pt x="453422" y="0"/>
                  <a:pt x="584200" y="35182"/>
                  <a:pt x="584200" y="78581"/>
                </a:cubicBezTo>
                <a:lnTo>
                  <a:pt x="544910" y="78581"/>
                </a:lnTo>
                <a:cubicBezTo>
                  <a:pt x="544910" y="56881"/>
                  <a:pt x="431723" y="39290"/>
                  <a:pt x="292100" y="39290"/>
                </a:cubicBezTo>
                <a:cubicBezTo>
                  <a:pt x="152477" y="39290"/>
                  <a:pt x="39290" y="56881"/>
                  <a:pt x="39290" y="78581"/>
                </a:cubicBezTo>
                <a:lnTo>
                  <a:pt x="0" y="78581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Арка 13"/>
          <p:cNvSpPr/>
          <p:nvPr/>
        </p:nvSpPr>
        <p:spPr>
          <a:xfrm>
            <a:off x="4165560" y="3225960"/>
            <a:ext cx="482760" cy="126720"/>
          </a:xfrm>
          <a:custGeom>
            <a:avLst/>
            <a:gdLst/>
            <a:ahLst/>
            <a:rect l="l" t="t" r="r" b="b"/>
            <a:pathLst>
              <a:path w="482600" h="127000">
                <a:moveTo>
                  <a:pt x="0" y="63500"/>
                </a:moveTo>
                <a:cubicBezTo>
                  <a:pt x="0" y="28430"/>
                  <a:pt x="108034" y="0"/>
                  <a:pt x="241300" y="0"/>
                </a:cubicBezTo>
                <a:cubicBezTo>
                  <a:pt x="374566" y="0"/>
                  <a:pt x="482600" y="28430"/>
                  <a:pt x="482600" y="63500"/>
                </a:cubicBezTo>
                <a:lnTo>
                  <a:pt x="450850" y="63500"/>
                </a:lnTo>
                <a:cubicBezTo>
                  <a:pt x="450850" y="45965"/>
                  <a:pt x="357031" y="31750"/>
                  <a:pt x="241300" y="31750"/>
                </a:cubicBezTo>
                <a:cubicBezTo>
                  <a:pt x="125569" y="31750"/>
                  <a:pt x="31750" y="45965"/>
                  <a:pt x="31750" y="63500"/>
                </a:cubicBezTo>
                <a:lnTo>
                  <a:pt x="0" y="63500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Арка 14"/>
          <p:cNvSpPr/>
          <p:nvPr/>
        </p:nvSpPr>
        <p:spPr>
          <a:xfrm>
            <a:off x="6477120" y="3263760"/>
            <a:ext cx="965160" cy="88920"/>
          </a:xfrm>
          <a:custGeom>
            <a:avLst/>
            <a:gdLst/>
            <a:ahLst/>
            <a:rect l="l" t="t" r="r" b="b"/>
            <a:pathLst>
              <a:path w="965200" h="88900">
                <a:moveTo>
                  <a:pt x="0" y="44450"/>
                </a:moveTo>
                <a:cubicBezTo>
                  <a:pt x="0" y="19901"/>
                  <a:pt x="216067" y="0"/>
                  <a:pt x="482600" y="0"/>
                </a:cubicBezTo>
                <a:cubicBezTo>
                  <a:pt x="749133" y="0"/>
                  <a:pt x="965200" y="19901"/>
                  <a:pt x="965200" y="44450"/>
                </a:cubicBezTo>
                <a:lnTo>
                  <a:pt x="942975" y="44450"/>
                </a:lnTo>
                <a:cubicBezTo>
                  <a:pt x="942975" y="32175"/>
                  <a:pt x="736858" y="22225"/>
                  <a:pt x="482600" y="22225"/>
                </a:cubicBezTo>
                <a:cubicBezTo>
                  <a:pt x="228342" y="22225"/>
                  <a:pt x="22225" y="32175"/>
                  <a:pt x="22225" y="44450"/>
                </a:cubicBezTo>
                <a:lnTo>
                  <a:pt x="0" y="44450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2640" y="1562040"/>
            <a:ext cx="83646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готовка к ЕГЭ. Трудные случаи орфографии (задание №9)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фограммы корня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9320" y="1117440"/>
            <a:ext cx="96012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: создать условия для достижения образовательных результатов через изучение написания слов с безударными гласными в корне, проверяемыми ударением, и чередующимися гласными в корне, подготовка в ЕГЭ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00280" y="369360"/>
            <a:ext cx="9601200" cy="17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рфоэпическая разминка 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Заморочки из бочки».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77520" y="2160720"/>
            <a:ext cx="9126360" cy="38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пределите данные слова по трём бочкам: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делина, Борис  – с ударением на первом слоге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ктория – с ударением на втором слоге;</a:t>
            </a:r>
            <a:br>
              <a:rPr sz="2400"/>
            </a:b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твей – с ударением на последнем слоге.</a:t>
            </a:r>
            <a:br>
              <a:rPr sz="2400"/>
            </a:b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спансер, завидно, занял, заперта, искра, каталог, намерение, начал, начавшись, отозвалась, торты, углубить, цепочка, шарфы, эксперт.</a:t>
            </a:r>
            <a:br>
              <a:rPr sz="2400"/>
            </a:b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9317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3" name="Объект 3" descr="https://avatars.mds.yandex.net/i?id=8b10018d046ac1dc530ab419fc33a886333e4208-8709977-images-thumbs&amp;n=13"/>
          <p:cNvPicPr/>
          <p:nvPr/>
        </p:nvPicPr>
        <p:blipFill>
          <a:blip r:embed="rId1"/>
          <a:stretch/>
        </p:blipFill>
        <p:spPr>
          <a:xfrm>
            <a:off x="1155600" y="2527200"/>
            <a:ext cx="2438640" cy="30481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4" descr="https://avatars.mds.yandex.net/i?id=8b10018d046ac1dc530ab419fc33a886333e4208-8709977-images-thumbs&amp;n=13"/>
          <p:cNvPicPr/>
          <p:nvPr/>
        </p:nvPicPr>
        <p:blipFill>
          <a:blip r:embed="rId2"/>
          <a:stretch/>
        </p:blipFill>
        <p:spPr>
          <a:xfrm>
            <a:off x="4876920" y="2527200"/>
            <a:ext cx="2438280" cy="304812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5" descr="https://avatars.mds.yandex.net/i?id=8b10018d046ac1dc530ab419fc33a886333e4208-8709977-images-thumbs&amp;n=13"/>
          <p:cNvPicPr/>
          <p:nvPr/>
        </p:nvPicPr>
        <p:blipFill>
          <a:blip r:embed="rId3"/>
          <a:stretch/>
        </p:blipFill>
        <p:spPr>
          <a:xfrm>
            <a:off x="8458200" y="2527200"/>
            <a:ext cx="2438280" cy="30481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6"/>
          <p:cNvSpPr/>
          <p:nvPr/>
        </p:nvSpPr>
        <p:spPr>
          <a:xfrm>
            <a:off x="1841400" y="3276720"/>
            <a:ext cx="102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ты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фы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ра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Прямоугольник 7"/>
          <p:cNvSpPr/>
          <p:nvPr/>
        </p:nvSpPr>
        <p:spPr>
          <a:xfrm>
            <a:off x="5499000" y="3492360"/>
            <a:ext cx="1524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дн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р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вшис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пОч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Прямоугольник 8"/>
          <p:cNvSpPr/>
          <p:nvPr/>
        </p:nvSpPr>
        <p:spPr>
          <a:xfrm>
            <a:off x="9067680" y="3174840"/>
            <a:ext cx="1435320" cy="18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спансЕр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ерт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талО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озвалАс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лубИть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880" y="609120"/>
            <a:ext cx="96472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Алгоритм  выполнения задания № 9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95280" y="1663200"/>
            <a:ext cx="988056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нимательно прочитайте задание, поймите, слова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 какому правилу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должны быть в ряду: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веряемые 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ласные в корне,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епроверяемые 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ласные или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чередующиес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спользуйте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етод исключения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 если в ряду нашли слово по другому правилу, переходите к следующему ряду. Так вы значительно сократите врем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 ответе должно быть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есколько цифр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поэтому внимательно рассматривайте слова каждого ряда, не пропустите верный отве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сли нужно найти ряды с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чередующимися гласными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то вспомните эти корни, не перепутайте их с проверяемыми гласными (например,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ас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ться и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с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уться — это чередующиеся гласные в корне, а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с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ть — это проверяемая —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Ос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т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сли нужно найти ряды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 проверяемыми или непроверяемыми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гласными в корне, то сначала найдите 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СЕ гласные в корне. 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Если хотя бы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одна из них подходит по правилу, </a:t>
            </a: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о данное слово будет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правильным для отве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7284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орфограм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77520" y="2286000"/>
            <a:ext cx="91011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зударная непроверяемая гласная в корне слов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зударная гласная в корне, проверяемая ударением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редующаяся гласная в корне слов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0-09T17:35:13Z</dcterms:created>
  <dc:creator>Пользователь</dc:creator>
  <dc:description/>
  <dc:language>en-US</dc:language>
  <cp:lastModifiedBy>Пользователь</cp:lastModifiedBy>
  <dcterms:modified xsi:type="dcterms:W3CDTF">2025-10-13T14:26:25Z</dcterms:modified>
  <cp:revision>19</cp:revision>
  <dc:subject/>
  <dc:title>Тема: Подготовка к ЕГЭ. Трудные случаи орфографии (задание №9)</dc:title>
</cp:coreProperties>
</file>